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push.wav" ContentType="audio/x-wav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7CDA-EB66-434C-BFF2-AD553D24A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56B9-A69E-4DD2-B7D6-E0A126A9C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DDCA-130B-45DF-B059-AF477657C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0FEA-7476-4D8D-98F0-22B9F98E7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1ED5-A337-45EE-AEB5-22BBE6E82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A60-9B93-4AFA-9885-955878CE1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061B-2B17-4284-9FD9-C658B9D21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35FE-58FF-4D9C-A621-6FB1BFC22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9703-4B83-4444-AF5A-4414834A0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DD30-D102-4534-ACB8-2C5449935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F7E0-A09B-4897-A72C-09714C26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AD34-B04A-405F-B5E4-2CB9CF574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330C-1958-49E5-920D-6C722FFC0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70F1-7395-40C1-BDE8-E447A0E5E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72CE-978F-48C0-8DC0-EB4CE9B8C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0A7F-0105-436B-AE35-D01BD775D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36FD-D790-4E68-81ED-CB8D2951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FF3D-8062-45E4-AA7C-68176036B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102C-6198-4430-AC31-1A9A2CA54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282-5E57-49CE-B31F-5C59B2D3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0B4-F4A3-44B4-ADED-0DE03AB3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426-9F0D-4419-8AC1-B65ECA82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E079-B698-43B6-A0FB-4D0481F7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E4C-F1DC-47AE-84C1-8EEFCF67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46A5-E6D8-4191-84E1-C20BE107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D91-0485-498E-A05B-6619751E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260-C554-4D97-99AE-A5B782E2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255-793F-46E5-9808-35D1F33D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997-9E3E-4EA1-AD69-69CC9BC4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9A4-7332-47AE-B58E-F164A109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90A-A3EE-4927-B43B-ACF3E7E2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FA91-B8D5-4C58-B7F0-2BF562C81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213804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You will answer 20 questions on a SEPARATE sheet of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Each question will last 1 min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Be prepared to begin at the sound of the 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Arial"/>
              </a:rPr>
              <a:t>GOOD LUC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1016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.  Which branch of government’s primary duty is to evaluate the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114640" y="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4800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 Who was the primary author of the Declaration of Independ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25720" cy="373356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1295280" y="4724280"/>
            <a:ext cx="701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.  Additions to the Constitution are calle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52600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3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.  Which Amendment ended slave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286000" y="-34920"/>
            <a:ext cx="4761000" cy="40384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. The protection in the 5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mendment that prohibits individuals from being tried for the same crime twice is call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2819520"/>
            <a:ext cx="5362560" cy="281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784680" y="3733920"/>
            <a:ext cx="5359320" cy="282240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3" name="push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.  Which Amendment granted women the right to vo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4824360" cy="463536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.  What did the pilgrims sign in 1620 to set up representative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4976640" cy="418464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76720" y="23619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.  Which Amendment provides for a direct tax on personal in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.  What group was IN FAVOR of ratifying the Constit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4906800" cy="392904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. Name the rebellion that occurred during 1786-1787 over farm foreclosures in Massachuset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616120" y="342900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6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StarVader"/>
              </a:rPr>
              <a:t>UNIT II REVIEW QUI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tarVader"/>
              </a:rPr>
              <a:t>ROAD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tarVader"/>
              </a:rPr>
              <a:t>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l"/>
    <p:sndAc>
      <p:stSnd>
        <p:snd r:embed="rId1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. Who presided over the Constitutional Conven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663560" y="2514600"/>
            <a:ext cx="5216760" cy="22924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. What did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ti-Federalists believe the Constitution DID NOT provide for the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124080" y="2843280"/>
            <a:ext cx="2590920" cy="399420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500360" cy="4500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. The _____ Plan called for representation to be based on population in a bicameral govern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What is the highest law of the l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2362320" y="2057400"/>
            <a:ext cx="4029120" cy="41194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Explain the concept of Judicial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1577880" y="1676520"/>
            <a:ext cx="5693040" cy="441936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3" name="push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440" y="41144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Name two personal liberties granted in the 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mend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429000" y="152280"/>
            <a:ext cx="2521080" cy="335448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 Which branch of government’s primary duty is to make the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114640" y="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1371600"/>
            <a:ext cx="4170240" cy="4170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6200" y="182844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Name a weakness of the Articles of Confeder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  Which branch of government’s primary duty is to enforce the la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114640" y="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 The introduction to the Constitution is call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726160" cy="376236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l"/>
    <p:sndAc>
      <p:stSnd>
        <p:snd r:embed="rId2" name="push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0:35:47Z</dcterms:created>
  <dc:creator>THOMAS_SAUER</dc:creator>
  <dc:description/>
  <dc:language>en-US</dc:language>
  <cp:lastModifiedBy>SysAdmin</cp:lastModifiedBy>
  <dcterms:modified xsi:type="dcterms:W3CDTF">2012-02-10T15:48:51Z</dcterms:modified>
  <cp:revision>55</cp:revision>
  <dc:subject/>
  <dc:title>1.  Why did President Truman decide to use the A-Bomb instead of invading Japan?</dc:title>
</cp:coreProperties>
</file>